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525-3FBD-4589-92A4-4A352E0A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BB8-6855-49C0-8FB6-1B52EE72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D3E-320E-4AA2-AD56-B26CF57E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F73-5586-437E-A96E-846D901F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AC7-AAE8-4AE6-8BFB-06E414B4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22B-D92F-49CB-BEE6-671ABCF7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C52-B727-462B-8E82-1EFE3B68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069-78BC-4681-B8B7-8F07C0A2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188-5FF2-4940-8A35-C4744B99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445-AD10-46FB-950C-775BB2D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308-D917-4437-919C-050F84E4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EA3-5F42-4078-845E-C6A89B74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6628-5DA1-4B78-B2D2-5C1002E0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www.latrecut.ro/wp-content/uploads/2006/04/jack_si_vrejul_de_fasole_65.jpg&amp;imgrefurl=http://www.latrecut.ro/2006/04/jack-si-vrejul-de-fasole/&amp;usg=__o-pDRGXrcXiTeb0N48CyTmUf4Y4=&amp;h=500&amp;w=341&amp;sz=35&amp;hl=ro&amp;start=1&amp;zoom=1&amp;tbnid=8py9TXlw_kXJ5M:&amp;tbnh=130&amp;tbnw=89&amp;prev=/images%3Fq%3Djack%2Bsi%2Bvrejul%2Bde%2Bfasole%26hl%3Dro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p1.picof.net/o-buna-ceasca-de-cafea-1185-l.jpg&amp;imgrefurl=http://krystal.picof.net/gallery/o-buna-ceasca-de-cafea-1185/&amp;usg=__ypEMO1hk_ZzlwA7sdgj9vMAuxg4=&amp;h=425&amp;w=640&amp;sz=63&amp;hl=ro&amp;start=1&amp;zoom=1&amp;tbnid=bFrdn-NwUjcBgM:&amp;tbnh=91&amp;tbnw=137&amp;prev=/images%3Fq%3Dceasca%2Bcu%2Bcafea%26hl%3Dro%26gbv%3D2%26tbs%3Disch:1&amp;itbs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arm3.static.flickr.com/2448/3735918823_334c25d9b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google.ro/imgres?imgurl=http://www.viamond.ro/images/apa-minerala-Borsec.gif&amp;imgrefurl=http://www.viamond.ro/advanced_search_result.php%3Fkeywords%3D%26x%3D32%26y%3D15%26categories_id%3D%26inc_subcat%3D1%26manufacturers_id%3D60%26pfrom%3D0%26pto%3D200000&amp;usg=__jYe0RZx1xJch3SSUZtlRXNKUkQw=&amp;h=340&amp;w=420&amp;sz=19&amp;hl=ro&amp;start=6&amp;zoom=1&amp;tbnid=lVTnLBsvJu1OuM:&amp;tbnh=101&amp;tbnw=125&amp;prev=/images%3Fq%3Dapa%2Bborsec%26hl%3Dro%26sa%3DG%26gbv%3D2%26tbs%3Disch:1&amp;itbs=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google.ro/imgres?imgurl=http://www.energeia.ro/wp-content/uploads/2009/04/apa-chiuveta-romania.jpg&amp;imgrefurl=http://www.energeia.ro/poluare/la-ce-folosim-apa-de-la-chiuveta-1271/&amp;usg=__BNUlzIeNEhIX6ndxsgMfNLx9NdU=&amp;h=220&amp;w=300&amp;sz=23&amp;hl=ro&amp;start=1&amp;zoom=1&amp;tbnid=IVuurnelO4LC0M:&amp;tbnh=85&amp;tbnw=116&amp;prev=/images%3Fq%3Dapa%2Bchiuveta%26hl%3Dro%26sa%3DG%26gbv%3D2%26tbs%3Disch:1&amp;itbs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5320" y="574560"/>
            <a:ext cx="51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Jack si vrejul de faso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57336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noua versiune de Emma si  Alina, eleve in clasa  a-X-a B la Liceul de Muzica si Arte Plastice “ C. Brailoi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700280"/>
            <a:ext cx="2592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859280" y="2781360"/>
            <a:ext cx="41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641520"/>
            <a:ext cx="8569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p de doua saptamani au urmarit in fiecare zi plantele din  experienta. Apoi s-au hotarat sa masoare tulpinile. Ce credeti ca au observ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205000"/>
            <a:ext cx="808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lpinile udate cu apa de izvor erau mai inalte cu 3 cm decat cele  udate cu apa de la robinet si cu 2 cm in plus fata de cele udate cu apa cumpar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3860640"/>
            <a:ext cx="2808360" cy="262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64000" y="3860640"/>
            <a:ext cx="3313440" cy="2590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378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 suntem sigure ca toate povestile au un dram de adev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916280"/>
            <a:ext cx="374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jul de fasole din povestea lui Jack a crescut atat de repede si de viguros pentru ca acesta il uda doar cu apa de izv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pa de izvor a 15-a zi tulpina" descr=""/>
          <p:cNvPicPr/>
          <p:nvPr/>
        </p:nvPicPr>
        <p:blipFill>
          <a:blip r:embed="rId1"/>
          <a:stretch/>
        </p:blipFill>
        <p:spPr>
          <a:xfrm>
            <a:off x="4932360" y="2575080"/>
            <a:ext cx="3672000" cy="409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1640" y="4437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asta a fost povestea noastr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95000" y="1025640"/>
            <a:ext cx="750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 ar fi daca voi ati incerca sa folositi caf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beti in fiecare z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205000"/>
            <a:ext cx="2016000" cy="151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26028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fost o data ca niciodata ….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st o fetita Emma si fratii ei locuiau alaturi de bunici. Intr-o dimineata bunica a trezit-o pe fetita si i-a spus sa mearga la izvorul de pe deal  sa aduca un bidon de a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85264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Vedeţi imaginea la dimensiunea complet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3600360" cy="331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62064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ma a chemat-o si pe prietena ei Alina la izvor.  Pe drum i-a spus ca izvorul  este fermecat caci bunica i-a  soptit la ureche  ca fasolea fierbe mai repede in apa l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2519640" cy="273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04200" y="2073240"/>
            <a:ext cx="42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upa 11 ani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89000"/>
            <a:ext cx="814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e doua colege, Emma si Alina, eleve in clasa a-X-a si-au amintit  intamplarea din copilarie si au hotarat sa devina mici cercetatoare realizand un experiment numit “Modificarea puterii de germinatie a semintelor de fasole sub influenta unor factori extern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5120" y="273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820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484280"/>
            <a:ext cx="32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6760" y="4675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93372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4249800" cy="285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549360"/>
            <a:ext cx="72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ineata, fetele s-au apucat de trea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ma a pus vata in mai  multe castronele si apoi a umezit-o cu apa adusa de la izvorul “fermeca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104000" cy="31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268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 constatat dupa putin timp ca boabele se modi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a 2 ore boabele Emmei se umflas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458136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na a mai asteptat o ora pana cand a observat ca si fasolea udata cu apa plata se umf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2664000" cy="165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69228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na a zis ”Oare ce se intampla daca  punem seminte la incoltit si cu apa de la robinet sau cu apa plata imbuteliata?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51640" y="3933720"/>
            <a:ext cx="3492360" cy="273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089080" cy="23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2852640"/>
            <a:ext cx="2592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1052640"/>
            <a:ext cx="806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26920" y="3933720"/>
          <a:ext cx="4753080" cy="29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933720"/>
                    <a:ext cx="475308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79280" y="404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na se obisnuise sa astepte mai mult decat Emma, toate fazele erau intarziate in experimentul s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 comparat momentele aparitiei radacinit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500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au obser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411280" y="2421000"/>
            <a:ext cx="1584360" cy="100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12000" y="2276640"/>
            <a:ext cx="2305080" cy="216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6:44:32Z</dcterms:created>
  <dc:creator>Mone</dc:creator>
  <dc:description/>
  <dc:language>en-US</dc:language>
  <cp:lastModifiedBy>Mone</cp:lastModifiedBy>
  <dcterms:modified xsi:type="dcterms:W3CDTF">2009-02-04T22:29:52Z</dcterms:modified>
  <cp:revision>8</cp:revision>
  <dc:subject/>
  <dc:title>Slide 1</dc:title>
</cp:coreProperties>
</file>